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32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2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37.png" ContentType="image/png"/>
  <Override PartName="/ppt/media/image14.jpeg" ContentType="image/jpeg"/>
  <Override PartName="/ppt/media/image3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1.png" ContentType="image/png"/>
  <Override PartName="/ppt/media/image11.png" ContentType="image/png"/>
  <Override PartName="/ppt/media/image19.jpeg" ContentType="image/jpeg"/>
  <Override PartName="/ppt/media/image42.jpeg" ContentType="image/jpeg"/>
  <Override PartName="/ppt/media/image6.png" ContentType="image/png"/>
  <Override PartName="/ppt/media/image36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4.png" ContentType="image/png"/>
  <Override PartName="/ppt/media/image30.png" ContentType="image/png"/>
  <Override PartName="/ppt/media/image3.jpeg" ContentType="image/jpeg"/>
  <Override PartName="/ppt/media/image2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36E3-CF59-4C35-9CD1-031D36455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0133-6798-44E4-8E91-76BCEE8EE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4BF1-9A3D-4E6D-B619-04327070E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DAE1-B1B0-4361-9ADA-7EA33788A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0E83-E266-4C54-8B44-6B78FBC0E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A433-795B-4125-BC2B-6267FF989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D2F5-C254-471A-AD37-7ADE79F68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1D63-D462-43E5-9748-F24BE4D66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08DE-F08E-4626-8EA0-EED37BA2F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85D9-F72D-4524-8618-E9D34B82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9DF8-00C8-4769-A497-E3F5E72C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DEA0-5403-4D8E-BA3C-501F303D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CDBF2-63E2-435A-A562-E63E1BFF5F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32000" y="333360"/>
            <a:ext cx="6480000" cy="6014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84360" y="1773360"/>
            <a:ext cx="8135640" cy="26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Паркеты и мозаи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Моза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>
            <a:lum contrast="-68000"/>
          </a:blip>
          <a:stretch/>
        </p:blipFill>
        <p:spPr>
          <a:xfrm>
            <a:off x="324000" y="1341360"/>
            <a:ext cx="4284360" cy="26082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>
            <a:lum contrast="-76000"/>
          </a:blip>
          <a:stretch/>
        </p:blipFill>
        <p:spPr>
          <a:xfrm>
            <a:off x="539640" y="4035600"/>
            <a:ext cx="3816360" cy="27223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>
            <a:lum contrast="-74000"/>
          </a:blip>
          <a:stretch/>
        </p:blipFill>
        <p:spPr>
          <a:xfrm>
            <a:off x="4788000" y="1341360"/>
            <a:ext cx="3744720" cy="26067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>
            <a:lum contrast="-78000"/>
          </a:blip>
          <a:stretch/>
        </p:blipFill>
        <p:spPr>
          <a:xfrm>
            <a:off x="4788000" y="4076640"/>
            <a:ext cx="3887640" cy="25671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Моза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24000" y="2205000"/>
            <a:ext cx="4032000" cy="27576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932360" y="2133720"/>
            <a:ext cx="3745080" cy="34765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Паркеты из правильных многоуголь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3, 3, 6, 6"/>
          <p:cNvPicPr/>
          <p:nvPr/>
        </p:nvPicPr>
        <p:blipFill>
          <a:blip r:embed="rId1"/>
          <a:stretch/>
        </p:blipFill>
        <p:spPr>
          <a:xfrm>
            <a:off x="395280" y="981000"/>
            <a:ext cx="2006640" cy="1446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4, 6, 12"/>
          <p:cNvPicPr/>
          <p:nvPr/>
        </p:nvPicPr>
        <p:blipFill>
          <a:blip r:embed="rId2"/>
          <a:stretch/>
        </p:blipFill>
        <p:spPr>
          <a:xfrm>
            <a:off x="6659640" y="4941720"/>
            <a:ext cx="2166840" cy="1621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292720" y="1484280"/>
            <a:ext cx="1400040" cy="1173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877080" y="981000"/>
            <a:ext cx="1873080" cy="1581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3348000" y="4508640"/>
            <a:ext cx="2448000" cy="2062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2700360" y="1557360"/>
            <a:ext cx="2016000" cy="1041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4788000" y="3141720"/>
            <a:ext cx="1944720" cy="1033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0" y="2997360"/>
            <a:ext cx="2411280" cy="1622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179280" y="5024520"/>
            <a:ext cx="2232000" cy="1522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0"/>
          <a:stretch/>
        </p:blipFill>
        <p:spPr>
          <a:xfrm>
            <a:off x="7164360" y="2997360"/>
            <a:ext cx="1979640" cy="1584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1"/>
          <a:stretch/>
        </p:blipFill>
        <p:spPr>
          <a:xfrm>
            <a:off x="2700360" y="3068640"/>
            <a:ext cx="1727280" cy="1101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be0e3"/>
                </a:solidFill>
                <a:latin typeface="Arial"/>
              </a:rPr>
              <a:t>Паркеты из неправильных многоуголь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95280" y="4713120"/>
            <a:ext cx="3313080" cy="1984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435640" y="1484280"/>
            <a:ext cx="3419280" cy="1693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5003640" y="4508640"/>
            <a:ext cx="3780000" cy="20732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2340000" y="3000240"/>
            <a:ext cx="5400720" cy="2229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539640" y="1700280"/>
            <a:ext cx="3168720" cy="165744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be0e3"/>
                </a:solidFill>
                <a:latin typeface="Arial"/>
              </a:rPr>
              <a:t>Паркеты из произвольных фигу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3132000" cy="2305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796000" y="1125360"/>
            <a:ext cx="3348000" cy="2341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203640" y="2133720"/>
            <a:ext cx="2477880" cy="2477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6012000" y="3960720"/>
            <a:ext cx="3132000" cy="2897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0" y="387036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3059280" y="4724280"/>
            <a:ext cx="2881080" cy="21337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be0e3"/>
                </a:solidFill>
                <a:latin typeface="Arial"/>
              </a:rPr>
              <a:t>Паркеты из произвольных фигу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4624560" cy="1587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699080" y="1484280"/>
            <a:ext cx="4444920" cy="4897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971640" y="3284640"/>
            <a:ext cx="3268440" cy="32842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be0e3"/>
                </a:solidFill>
                <a:latin typeface="Arial"/>
              </a:rPr>
              <a:t>Паркеты из произвольных фигу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3160440" cy="28386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4572000" y="1708200"/>
            <a:ext cx="4321080" cy="39528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971640" y="4365720"/>
            <a:ext cx="2520720" cy="23130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Рисунки для парке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7993080" cy="26240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116000" y="3933720"/>
            <a:ext cx="7056360" cy="259740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Рисунки для паркетов и моза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4427640" cy="4969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643280" y="1636560"/>
            <a:ext cx="4500720" cy="496116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Мозаик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>
            <a:lum contrast="-80000"/>
          </a:blip>
          <a:stretch/>
        </p:blipFill>
        <p:spPr>
          <a:xfrm>
            <a:off x="250920" y="1125360"/>
            <a:ext cx="3889440" cy="24354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>
            <a:lum contrast="-72000"/>
          </a:blip>
          <a:stretch/>
        </p:blipFill>
        <p:spPr>
          <a:xfrm>
            <a:off x="5003640" y="1138320"/>
            <a:ext cx="3857760" cy="2431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>
            <a:lum contrast="-78000"/>
          </a:blip>
          <a:stretch/>
        </p:blipFill>
        <p:spPr>
          <a:xfrm>
            <a:off x="324000" y="3860640"/>
            <a:ext cx="3816360" cy="2665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>
            <a:lum contrast="-64000"/>
          </a:blip>
          <a:stretch/>
        </p:blipFill>
        <p:spPr>
          <a:xfrm>
            <a:off x="5003640" y="3933720"/>
            <a:ext cx="3745080" cy="25815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5T12:48:20Z</dcterms:created>
  <dc:creator>Габов</dc:creator>
  <dc:description/>
  <dc:language>en-US</dc:language>
  <cp:lastModifiedBy>Габов</cp:lastModifiedBy>
  <dcterms:modified xsi:type="dcterms:W3CDTF">2006-04-06T09:20:59Z</dcterms:modified>
  <cp:revision>3</cp:revision>
  <dc:subject/>
  <dc:title>Паркеты и мозаики</dc:title>
</cp:coreProperties>
</file>